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6B76-1702-4364-9552-8DBDF88E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191F-7A28-455A-AD2A-20DCFEC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F4B6-655F-4BBC-852C-42449F8C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9EFF-3E29-4138-B02D-210A500C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971-34D8-40D8-BADF-37C06991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193E-EB15-4889-860A-5455EF8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BB54-AAE2-4DB2-B6B7-A38FAC0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DFA-2F99-4723-809E-3AEF1F3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53A-0F41-4C7E-ACD8-CF382549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AF4F-5D82-4D01-81FE-A3B642C3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5AA-01F3-4CD2-9A61-2C7FE54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35A5-86AF-46FB-A8E2-9F46997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EE8-64C4-48B4-96D8-285189A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1BB8-D439-4C58-8A40-0258C8B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538-E78E-4C49-B985-618F5D48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622-8E81-43D5-A7DE-7FA474B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558-C8FB-4897-BDFD-F393175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37F6-C572-4E11-8D99-114EB8E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35F5-5E0E-431D-82E6-24F8B653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9573-2B49-4622-93F8-2A104E0F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34B2-8310-4CAA-833B-557CE79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4B8E-51FC-4C95-A1DA-540CE55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13BE-C86E-4F92-AF41-B18172C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614E-CC1A-4E5C-A776-583D06A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966-BC02-4045-A71D-C791AF10115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C97-5F3D-4CB5-B954-BAB008157C9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3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28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ни сравня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видели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ри ни да свети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о свещ в нощт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етлина да бъде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ка Господ наш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ъв своя ъгъ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пък в моя аз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В тоя свят окая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ред е тъмнин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дали сред мра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сим светлин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наш преглеж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и светим ни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ъв своя ъгъл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в моя с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 Грях и скръб и бедн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 в този св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тъмнина живе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ши братя вред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етлина 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е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ска Господ наш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във своя ъгъ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пък в моя аз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6-08T17:00:35Z</dcterms:modified>
  <cp:revision>167</cp:revision>
  <dc:subject/>
  <dc:title>Slide 1</dc:title>
</cp:coreProperties>
</file>